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1456-E03C-4AF6-A96C-9E6A4F3455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B8F8-C8D8-4BBF-8EBA-1872F1E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9F70DB-63A9-4F4F-8095-AE2E663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EB818-A0A0-4DCB-9FA7-8F1326B0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21190C-43D1-441F-9A21-EDC79FF6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6112A-4DA4-4835-A692-8B43534A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462D37-98DF-4EDF-8B97-A55BB9B9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BE986-7B69-4A7B-8076-7520EDB8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D7D695-86AA-405B-A93C-A6F69B3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65B68-44CE-4F49-87B9-EB1F2CF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851A01-41A3-42DF-9225-AFDE876C2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F68F-91BD-4E77-B4E0-C855D9F8F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48F3-AC6D-4F77-8560-470F577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0AA6A-8F3C-43A6-AF53-B85A6DC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28C6-D69B-49E1-B921-9595EE54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072C3-2AA5-4851-8356-DC459957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8C9C1-0DBC-4331-9AEB-A61169CE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3C2C-E07B-406B-A078-2589EE13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F902-E287-4435-9117-5EC0181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ECD35-E23F-42D8-8422-F87416B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BFD3D-08AD-471C-86BD-6A6B330E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18A98-B5AC-4E60-A7B0-13F2E3A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1D99-EC1A-46B1-A8DE-E830ABE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9ABA-67E9-4DBC-A28F-1364429D80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05100-FB38-4ED3-9EF0-610F09926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E3C8F-DF1F-45FB-8A44-6603120BA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6137F9-D015-4913-85E4-50217E3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27807-6C76-4432-81E8-EF0EAD1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C6C5C4-C55E-4340-9496-23D43615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1EC2F-AA34-44F9-AD56-AB0A3950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BCB79-8D35-49A7-BEF5-97CD30E6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5B6DB-DF17-4693-A203-F546F05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088ED-5A20-4F5D-A5BB-732A6B8C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A0ED4-702A-4184-BB11-600455E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4E69-A10A-41AD-8002-DF5563D2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765B4-18B5-4BED-98AF-B4AC0ED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246B6-426E-4330-AA8F-73F8087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8C0AF-A47A-4F8B-A776-6B04174E2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A66AE-23E7-4FC4-A4B6-77E4D95DD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57378-EB0A-4FF6-A9AF-AF7AC5E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AC6AE-A030-42BB-802E-0E7BA258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C8685-67E6-421E-9B6C-F29810D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CC33B-06FF-4A0D-A84F-80C9863F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503F2-01CC-46B2-8C35-E7C5CAD6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88FA5-5340-46ED-84DE-E46329AC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F79D-E5B0-4BD1-AB27-304EFD1A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CAA2C-D106-425F-A44B-9FD61D9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6458D-D34D-4D3A-B1E1-8A06B761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60D8A-A1A7-4FC2-958D-F0C34BB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034A9-3081-465C-B232-35D2FC60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CC685-202C-49A6-9A7C-597A98E7C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058E-F562-4951-BCBC-B59267072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68D40-3AD3-4FEB-B813-308C666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DA970-2080-4904-97A0-B9758DEF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21EB2-DFC4-4754-A963-68840893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07545-3A1F-478B-A794-058867B2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D28E1-7086-4F3C-BB23-B9BF04E8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4712-FCA0-4B9F-9BB2-9F125B70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03EA-C74F-4F81-BE44-D6EEB147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95747-F07B-4A0D-9509-2E235534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AD45-4017-44C4-9EEC-A1C0FDC5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0F2CE-8C78-4166-826E-A033056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4159B-BA07-4E97-AC46-2060907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E8430-BD21-4CCE-8B3C-8B3255DB9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C7A2D-EA13-4575-AED3-B70B024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001DA-CFAE-4F68-A217-3CC0AD26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C98DA-9B1F-463A-9952-AA0DF70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694BE-9872-4A29-B169-263ACB59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B2B7B-B22C-43A3-A144-CEFD794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64C87-FB5F-4295-BCDB-E97062BA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298E6-628F-4EBA-8DCA-85D35FD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1C32D-6483-409B-9A5B-7F1CCBF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C68F9-AE28-4278-93E9-586A47B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F68CB-264A-4B2A-B295-F835EEC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19E71-0A56-4973-B75F-5CD7297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633C9-8DD0-46E3-91EB-3378FF8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2CC93-1E52-4974-86DF-D78A193C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39B4D-08C6-44CD-9D87-F16B609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E6D95-F212-423D-95B9-2F006BC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F166-5F6D-49CE-A19B-9CE8EC56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BA672-9E0A-4626-AA17-ED111AF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619D7-F727-414F-BDFE-4E79524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DCC71-EC21-4293-A851-9EC8300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9C314-3387-427E-AA98-81B5583D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4F87-CB66-4C5D-9602-E8B2A21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8A25B-0889-4C10-89E7-4717455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C9DF2-CB43-4B7E-AEB1-8E96468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5131A-907D-40BF-AE4B-452DCCE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0E3ED-1CE5-4A56-9668-8022D99F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DCF79-C62F-46CB-8F31-9D7FCDCB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EA94-DBA1-465E-AF83-333D40A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1A238-A747-43D1-84EC-C237D37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131A1-4966-44F7-8B35-3F62667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10DE2-4C0D-4847-8317-451442F9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0A73F-F81F-45C4-8DDE-C9557F81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496D0-1B3E-4F30-9EB0-6387762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6A099-8775-4D02-84E8-D945FC29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9BAB4-048C-4A98-8C68-5FE910C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6DA3C-B73E-4A64-B1EB-9E733BF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A185E-1080-4747-B39F-A12AD408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862DF-2A73-46B9-8460-9ADA838A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A2ABD-B9C0-4210-A4F5-5D15F8EE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AE4A3-10D2-43AD-BA65-113511DD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8091E-DEB0-49BC-8514-B9D6508E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F9E33-F539-40B8-93F7-F8248049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DAD93-98DD-4498-AF26-A03D2D6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3AE0D-B17D-4942-88F1-1D66781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5C035-BFB4-4575-BE02-70396C5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EA0AA-B0D3-4E62-B81D-98FDEDDB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7FFC4-5314-41C2-9769-B4857100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EC9B5-A8F1-427B-ADCD-2FEE0FC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D084-61AE-4B22-82F2-95BA87E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5CB7-38A8-4170-9941-ED02EFC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7F15E-1D97-4102-83A4-ABB98EB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A0CC5-124E-47C1-BA14-E7653C6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22458-9167-48B5-88D6-3C67B0B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B5EB5-E3FA-4173-87D7-3CADCFEB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9425F-129F-4C0B-A47D-321E772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C5CC7-B25F-4732-A26A-0A5DFDEB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67D08-BF88-46D5-BEE0-E2F7F580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EACA3-9F42-4AAB-9D9B-4C1B9F31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D8F75-C0E5-40DB-AFDE-058EF381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7409C-8EB5-4E3E-947C-8468352A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2513-759A-4B0C-B5AA-D502DAB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0CC36-640C-4690-9C5C-6FF54A07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076F6-F12A-4366-9131-5F8F602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1ADC8-F0C7-4ACE-A880-621C96E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163B5-EE0A-40F6-8C3F-B61873C2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E341A-06AC-4538-BF87-65523856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4A9EF-7087-439E-892E-63DC16D2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3DE33-966F-43CB-BD6B-3F397306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E8AE6-D9A0-4954-BD8F-AA6FCE43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F9369-848A-4190-A65C-61E555C4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BA9AB-B6E7-481B-AD2E-F04F33E4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AC2A7-F027-4EC9-A577-66E0040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D4957-D919-4B7A-AC67-AF7470EA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5EC70-8D4D-466C-9D0E-67787ED0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0B1F3-5FF6-4E82-AA97-0BDF5CF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8B6E5-5D56-4927-9990-084DFB6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56139-4BE9-4F87-B49C-60949BF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DFD21-40AB-4A3A-AE93-A951D70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9B5D1-AA2F-4345-96D5-1D7F4C5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0B598-35BA-41E6-9103-7114A2B0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AA6FF-AB8A-4D75-AB7A-8D7579F2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5CC05-232D-4819-B415-4DBAE8A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C4530-B466-42DC-96BB-80D2AD22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68E8B-956A-4EB1-95B4-4CB5723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04D7D-73AB-4A98-BBD6-31CEF78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123A9-42E3-432F-A49E-BBA037D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5287F-49C5-4BA4-AE17-829F22E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E2243-9E75-4A4D-A851-42AF6B4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35FE8-EB9F-4FB7-94CC-0DB019BB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92C30-69D7-4536-B3F3-85951E7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3E285-FB21-455E-8B8C-EF0A5B5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5F6CF-A44C-423A-B8B6-88DC668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E6F09-9BB8-495C-B113-6175F369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4139E-6006-4CD7-BB6E-C1AB2016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CD011-402C-40E6-B7A1-A878EB34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37834-A558-4FFB-93B9-EA6885C8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65023-1237-4B51-B515-91F8DF60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45023-369B-49EC-A461-15FAA7E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364C1-653E-4B96-93E4-CBA9DD67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ACAD1-C8C9-4A97-9F79-4B8B762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0E28C-10C7-4608-842D-49F831B5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5E5A2-2580-4569-9901-75DC914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E332A-9347-4F49-9254-F849D9C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59653-4EBB-4066-B0B6-D1891E4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CF9CF-CED4-4FFD-A286-0FD420EFB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B360B-9616-40EB-B956-DDBBB837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B4A1C-792C-492F-A53F-A64E050F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DC70B-DB01-4D9B-AE6C-6A05AA32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CE67D-F06C-4E50-85F7-CC9B516B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AEBD6-8D3E-4E81-A7FB-5EDF994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0E014-DD62-4034-B96A-F27411CC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FFC8B-A47F-4544-850D-DDF94C1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3C841-8227-499A-AA72-B08B1A82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000DB-FAEE-4486-B9AF-4A883173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025C2-074C-43F8-9CA5-DEF603E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917EE-21A2-48D9-A0B9-CDE9F18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15DF8-4C26-4D38-AFD9-4F170CF5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726D5-578C-4C7D-828F-BA2931F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D8257-6C7C-4778-B47D-629A719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2F7EE-BAFA-4773-94F1-63A14205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A5C0F-4F32-4941-8BCE-DE3707EA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C1C02-8C37-491D-83C0-294E38DD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C843E-DFC9-4380-9AE4-21DD4D8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F452C-7A84-4C30-9B1D-66AC69C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08869-FC13-43C6-BADE-5C0B0127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C28719-3761-463E-94E7-866F736D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6A332-8509-4E09-AADC-98E6A2C5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0B90E-C2D9-4ABF-B20B-1CA8F014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2FC87-0CCC-49A3-9AC3-7C7F0D0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049A3-D611-4903-8F28-F64DFE2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6B8D3-1E9F-485D-90EB-E8BB98C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A857F-01B2-4DA0-B05E-67278D1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E1F25-83E0-4D09-B0F0-40C65AE7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F5454-23ED-4DC4-B7FE-16D3B891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821C9-F8C2-470A-BE30-95150479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A3151-74CC-4B16-A02D-1F5CA32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918FD-379F-498B-8B52-05A73B2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33322-E2E9-4296-8DDE-4A975E6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05778-3D56-4479-A79C-1837039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1DF1F-19A0-42DE-8B79-9D6B038B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0CC73-CA2B-4EDC-B2B1-FBA0246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85DEC-0768-4542-B973-ACEBD28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17CA3-ABBE-4A03-89EC-CE0C0176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093B7-543C-4627-950A-209DD9C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5C954-5CE2-4D30-9A4C-F4FCF492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1DCA7-2E20-40DB-9873-EC8D0538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AA4D4-C8CB-462D-873A-3B66D923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5DAAA-72E2-4551-A0AF-19474453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DF9E-C10E-4467-B571-B128673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4BD1C-B04F-43E2-91C9-ED76A62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5D334-53CD-4B62-BEE6-1B24AA9F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E0FEB-4828-4FEE-9EB3-DDECC7A9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4CC55-EDCD-4FE7-B4B0-B073217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47C42-E677-4999-8D88-307B3AAD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8F327-D6EB-4BC1-8FD0-7FD6B1E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CD0F9-F446-4EA1-B411-70F0CDF75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A0FB-FA2E-43DA-AEE9-3D3E023B1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BC86-A74D-4630-9D69-7962BD1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672B-B3A9-4BF3-8D04-BA30402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7D65-390C-464B-AFC6-3CBCBC2D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FD80-1BAE-4747-BD89-197B0B48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2846-AB42-4A9E-9CB7-A63372EF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E4AD-5FA0-49B7-9BE9-88802481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D81E-1ADB-4DB0-93BD-7EBAB6F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8090-A2C8-44D4-B4A8-FE091A3A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FDB8-AC41-4E88-BF18-FF7038AD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9A5E-7FD6-4469-B788-7166C1F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A98E-13CF-4CDC-BC32-0D3CBCF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1EA0-99C4-443A-AB41-542B67FB5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E7610-2F5E-4A56-8E8B-06422ADEFE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366A-1222-480B-B9A8-784CB419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FA3F0-4E71-42CF-913D-072EF95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D12E5-AAAE-4B19-A319-AD198C4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02307-D211-4AF9-AE12-E7A15DC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7C7C5-7223-4A1C-92C9-1C470622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0FA8C-4DDF-40FB-A6A7-EFE983DD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37DBC-3801-4DD4-8708-1E19E882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34A76-FF4B-4E3A-9F8D-F81561F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3611D-BF04-4D99-AFBC-1D40AF6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F8883-7358-4488-9CEB-F9E444B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380E7-3655-49D6-9EA0-E9005DE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F52E-9A5D-416C-BC5F-C93F4B5C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085EC-6ACD-476E-91A5-B433840F6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52873-FCC6-4214-901C-5DC40D02A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AE785-AE1E-4EAE-94E0-6F0B080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D535F-6EF7-4533-9B3E-3722C8E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FB6F0-F61D-42CC-ADF6-037CF00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784521-A433-4536-A0AE-09070A66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7313B-649E-4466-9E47-492C65B7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8D0798-D031-42B5-8738-68451544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89962-86A8-440D-AD06-42278AD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959F5B-B700-47D2-97E2-5A074D29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8D44-F93D-430E-917F-99C58106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958C8-2C4A-440D-B37D-4F38627E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F525C-A6E6-4923-93BE-CB3171F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1D892-8C02-4841-B923-926613892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B727-24CD-4052-81E4-77DC6FFAF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1E71-5698-4FDD-969B-9DB1CC6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D3CD-4BB4-471D-AE62-0292808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D900-8D8F-45CF-8184-D16C520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56F0-0EDC-42A5-8878-C948AD5D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0113-DC88-410C-AFC6-04B07692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FF67-6500-4692-8B1E-FA2AF41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BE66-B64B-45AD-8F9C-97C2290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CE64-8FDE-46A8-A076-7A2CE57E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4E3DB-1E36-4CED-B620-B3324D9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6AE2-8777-4A16-BBFC-D54FACCA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D49F-042F-46A0-84EA-279B4DF8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7897-A2B8-4735-9C21-671ADE160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A70BC-953D-48AD-956B-FE11FC5F9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98E0F-4EA9-4B0E-82B2-8B153A6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8FCE5-82DF-43D9-8D37-EE92A12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107C0-171C-4688-ACEC-B01669A3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C09A9-954C-4340-9994-7C7981BA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FF23-B7EE-41BC-80E4-3E098FC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EBA9D-F44C-4626-8DBA-6D653B88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876D8-30B3-481E-BABB-63CBDBA2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49551-A01B-4ECD-9DF9-985197E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1FCBA-306D-4694-A609-7598D52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28D72-1A37-491C-8A51-6E9D956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EDFCB-4355-4C71-8B03-7854E23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07A29-79DC-4926-A872-A015AF437A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EDC7F-87B7-41FA-BAC6-C7FFC773B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385DB2-832E-421A-8A19-53CF9A1F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93133-2E6C-4CC6-84AC-1027AEB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3D7-86EF-4361-8842-1AF4A0F537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C936-224C-498E-90E4-AD0CE96F2B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52F-7492-46AC-AF69-A0E602A460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AD16-F625-452F-9F23-F0DAEBF66C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F1F-7A41-44B6-A5F1-BE2108279D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333E-1766-48A1-B25A-A9CBDC3831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319B-39B6-4F02-A810-DAC5BA795E0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D1AB-DF52-448C-B0DF-FAD95E0DF2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D256-16CE-492D-AE7A-19CA5934963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DAB-661C-462F-87F3-3B64D89741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2AC-5F63-40A7-B005-BBD0295CBF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82D9-79B3-4D31-A865-41EC85CB77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6CB-6503-4262-87C7-BD7D01EB5A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F509-0BC4-4ACE-BE4F-67CCFA3F6A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131-1297-493E-9C76-F502CFEE46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2CF9-219F-402E-BA99-33157F890E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2FE3-1BEE-4976-8BC9-E9E66CD718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84E4-3507-4392-BBF8-344CC213C0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C1B-AAEA-4ACC-BF0A-8C42DE52B0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FDC-EE5E-485C-A178-750732B2D93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4934-C77F-479C-A489-4B94CD4B73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C571-BDF8-4D21-A2F2-BB551285E2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4F5C-5F03-4283-818F-4C9BB2FCB8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751-F887-4A1D-9FF7-35E154E314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63840" y="2868480"/>
            <a:ext cx="5572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整 理 和 复 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527800" cy="527040"/>
            <a:chOff x="-50760" y="87480"/>
            <a:chExt cx="5527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26080" y="87480"/>
              <a:ext cx="5250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739800" cy="274320"/>
              <a:chOff x="-50760" y="182520"/>
              <a:chExt cx="73980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35080" y="33408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320" y="263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35080" y="1965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5320" y="1915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3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59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16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6132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6afcd472nb35262a75045&amp;690.jpg.png"/>
          <p:cNvPicPr/>
          <p:nvPr/>
        </p:nvPicPr>
        <p:blipFill>
          <a:blip r:embed="rId8"/>
          <a:stretch/>
        </p:blipFill>
        <p:spPr>
          <a:xfrm>
            <a:off x="71280" y="1214280"/>
            <a:ext cx="9072720" cy="458640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7"/>
          <p:cNvGrpSpPr/>
          <p:nvPr/>
        </p:nvGrpSpPr>
        <p:grpSpPr>
          <a:xfrm>
            <a:off x="95040" y="1251000"/>
            <a:ext cx="1905120" cy="2067840"/>
            <a:chOff x="95040" y="1251000"/>
            <a:chExt cx="1905120" cy="2067840"/>
          </a:xfrm>
        </p:grpSpPr>
        <p:sp>
          <p:nvSpPr>
            <p:cNvPr id="1011" name="弧形 3"/>
            <p:cNvSpPr/>
            <p:nvPr/>
          </p:nvSpPr>
          <p:spPr>
            <a:xfrm rot="18797400">
              <a:off x="402120" y="1702080"/>
              <a:ext cx="1243080" cy="1381320"/>
            </a:xfrm>
            <a:custGeom>
              <a:avLst/>
              <a:gdLst/>
              <a:ahLst/>
              <a:rect l="l" t="t" r="r" b="b"/>
              <a:pathLst>
                <a:path stroke="0" w="1242467" h="1380668">
                  <a:moveTo>
                    <a:pt x="621233" y="0"/>
                  </a:moveTo>
                  <a:cubicBezTo>
                    <a:pt x="964331" y="0"/>
                    <a:pt x="1242466" y="309073"/>
                    <a:pt x="1242466" y="690334"/>
                  </a:cubicBezTo>
                  <a:cubicBezTo>
                    <a:pt x="1242466" y="797344"/>
                    <a:pt x="1220555" y="898668"/>
                    <a:pt x="1181476" y="988999"/>
                  </a:cubicBezTo>
                  <a:lnTo>
                    <a:pt x="621233" y="690334"/>
                  </a:lnTo>
                  <a:close/>
                </a:path>
                <a:path fill="none" w="1242467" h="1380668">
                  <a:moveTo>
                    <a:pt x="621233" y="0"/>
                  </a:moveTo>
                  <a:cubicBezTo>
                    <a:pt x="964331" y="0"/>
                    <a:pt x="1242466" y="309073"/>
                    <a:pt x="1242466" y="690334"/>
                  </a:cubicBezTo>
                  <a:cubicBezTo>
                    <a:pt x="1242466" y="797344"/>
                    <a:pt x="1220555" y="898668"/>
                    <a:pt x="1181476" y="98899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1"/>
            <p:cNvSpPr/>
            <p:nvPr/>
          </p:nvSpPr>
          <p:spPr>
            <a:xfrm>
              <a:off x="500040" y="1251000"/>
              <a:ext cx="150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往后都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组合 10"/>
          <p:cNvGrpSpPr/>
          <p:nvPr/>
        </p:nvGrpSpPr>
        <p:grpSpPr>
          <a:xfrm>
            <a:off x="-234000" y="2870640"/>
            <a:ext cx="1754280" cy="2777400"/>
            <a:chOff x="-234000" y="2870640"/>
            <a:chExt cx="1754280" cy="2777400"/>
          </a:xfrm>
        </p:grpSpPr>
        <p:sp>
          <p:nvSpPr>
            <p:cNvPr id="1014" name="弧形 8"/>
            <p:cNvSpPr/>
            <p:nvPr/>
          </p:nvSpPr>
          <p:spPr>
            <a:xfrm rot="12517800">
              <a:off x="20520" y="3084480"/>
              <a:ext cx="1244880" cy="1380960"/>
            </a:xfrm>
            <a:custGeom>
              <a:avLst/>
              <a:gdLst/>
              <a:ahLst/>
              <a:rect l="l" t="t" r="r" b="b"/>
              <a:pathLst>
                <a:path stroke="0" w="1243975" h="1380737">
                  <a:moveTo>
                    <a:pt x="621987" y="0"/>
                  </a:moveTo>
                  <a:cubicBezTo>
                    <a:pt x="965501" y="0"/>
                    <a:pt x="1243974" y="309088"/>
                    <a:pt x="1243974" y="690368"/>
                  </a:cubicBezTo>
                  <a:cubicBezTo>
                    <a:pt x="1243974" y="797495"/>
                    <a:pt x="1221991" y="898923"/>
                    <a:pt x="1182787" y="989330"/>
                  </a:cubicBezTo>
                  <a:lnTo>
                    <a:pt x="621987" y="690368"/>
                  </a:lnTo>
                  <a:close/>
                </a:path>
                <a:path fill="none" w="1243975" h="1380737">
                  <a:moveTo>
                    <a:pt x="621987" y="0"/>
                  </a:moveTo>
                  <a:cubicBezTo>
                    <a:pt x="965501" y="0"/>
                    <a:pt x="1243974" y="309088"/>
                    <a:pt x="1243974" y="690368"/>
                  </a:cubicBezTo>
                  <a:cubicBezTo>
                    <a:pt x="1243974" y="797495"/>
                    <a:pt x="1221991" y="898923"/>
                    <a:pt x="1182787" y="98933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1"/>
            <p:cNvSpPr/>
            <p:nvPr/>
          </p:nvSpPr>
          <p:spPr>
            <a:xfrm>
              <a:off x="-71280" y="4411440"/>
              <a:ext cx="6271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Box 10"/>
          <p:cNvSpPr/>
          <p:nvPr/>
        </p:nvSpPr>
        <p:spPr>
          <a:xfrm>
            <a:off x="611280" y="8568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整理、复习乘法口诀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4" descr="D:\我的文档-桌面-收藏夹\桌面\szjiujiu.gif"/>
          <p:cNvPicPr/>
          <p:nvPr/>
        </p:nvPicPr>
        <p:blipFill>
          <a:blip r:embed="rId1"/>
          <a:stretch/>
        </p:blipFill>
        <p:spPr>
          <a:xfrm>
            <a:off x="1071720" y="785880"/>
            <a:ext cx="6929280" cy="508932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19" name="圆角矩形 47" descr=""/>
            <p:cNvPicPr/>
            <p:nvPr/>
          </p:nvPicPr>
          <p:blipFill>
            <a:blip r:embed="rId2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21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组合 2"/>
          <p:cNvGrpSpPr/>
          <p:nvPr/>
        </p:nvGrpSpPr>
        <p:grpSpPr>
          <a:xfrm>
            <a:off x="-68400" y="87480"/>
            <a:ext cx="3926160" cy="527040"/>
            <a:chOff x="-68400" y="87480"/>
            <a:chExt cx="3926160" cy="527040"/>
          </a:xfrm>
        </p:grpSpPr>
        <p:pic>
          <p:nvPicPr>
            <p:cNvPr id="103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9880" y="87480"/>
              <a:ext cx="37378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组合 4"/>
            <p:cNvGrpSpPr/>
            <p:nvPr/>
          </p:nvGrpSpPr>
          <p:grpSpPr>
            <a:xfrm>
              <a:off x="-68400" y="182520"/>
              <a:ext cx="522360" cy="274320"/>
              <a:chOff x="-68400" y="182520"/>
              <a:chExt cx="522360" cy="274320"/>
            </a:xfrm>
          </p:grpSpPr>
          <p:sp>
            <p:nvSpPr>
              <p:cNvPr id="1032" name="椭圆 52"/>
              <p:cNvSpPr/>
              <p:nvPr/>
            </p:nvSpPr>
            <p:spPr>
              <a:xfrm rot="16200000">
                <a:off x="191160" y="341640"/>
                <a:ext cx="10260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680" y="291600"/>
                <a:ext cx="224280" cy="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椭圆 58"/>
              <p:cNvSpPr/>
              <p:nvPr/>
            </p:nvSpPr>
            <p:spPr>
              <a:xfrm rot="16200000">
                <a:off x="191160" y="210600"/>
                <a:ext cx="10260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9680" y="194760"/>
                <a:ext cx="22428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68400" y="30564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68400" y="28116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68400" y="20664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68400" y="182520"/>
                <a:ext cx="446400" cy="8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0" name="矩形 1"/>
          <p:cNvSpPr/>
          <p:nvPr/>
        </p:nvSpPr>
        <p:spPr>
          <a:xfrm>
            <a:off x="285840" y="642960"/>
            <a:ext cx="84294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学习乘法口诀有什么用呢？（算算式、生活中买东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算一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7              9×4               9×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7              4×8               5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              8×3               7×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1316160" y="195120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4178160" y="195120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7183440" y="195120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1316160" y="252252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4178160" y="25225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7183440" y="252252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135720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1"/>
          <p:cNvSpPr/>
          <p:nvPr/>
        </p:nvSpPr>
        <p:spPr>
          <a:xfrm>
            <a:off x="421956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51"/>
          <p:cNvSpPr/>
          <p:nvPr/>
        </p:nvSpPr>
        <p:spPr>
          <a:xfrm>
            <a:off x="7183440" y="30718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285840" y="3968640"/>
            <a:ext cx="8429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(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里最大能填几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     )×4&lt;29       (     )×8&lt;55             34&gt;5×(     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51"/>
          <p:cNvSpPr/>
          <p:nvPr/>
        </p:nvSpPr>
        <p:spPr>
          <a:xfrm>
            <a:off x="1143000" y="471492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51"/>
          <p:cNvSpPr/>
          <p:nvPr/>
        </p:nvSpPr>
        <p:spPr>
          <a:xfrm>
            <a:off x="4286160" y="471492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1673280" y="531036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5"/>
          <p:cNvSpPr/>
          <p:nvPr/>
        </p:nvSpPr>
        <p:spPr>
          <a:xfrm>
            <a:off x="466560" y="117360"/>
            <a:ext cx="61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应用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4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